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60C-47BD-4A3E-A092-01D70405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8EE-5A2F-4F60-8333-DA32C2F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AB0-1E1C-43AA-8994-D2F852D5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18C-AAF4-4889-B8D4-D78ADEDD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9A0-EFDE-40AF-9DD7-C87399B1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EF9-D5C6-4947-9273-8AB70A00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AE5-A684-4E3C-8D76-E81DA5F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6E8-C52A-4D4A-B5D7-E087228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FC1-5351-4A25-864D-B7A8B02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6FF-8CBE-4DED-B867-D7337C5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5C1-3624-479A-94B3-2041D07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E2C-9179-4734-BA66-378BA8B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85DB-1F66-4511-A915-DFCF681A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6524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840" y="946080"/>
            <a:ext cx="57085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1 Polynomial Fun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egree odd/eve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eading coeff. +/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d behavi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# real zer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93680"/>
            <a:ext cx="7232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2 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lc to find zeros, rel. max, and rel. 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3 Quadratic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4320" y="146160"/>
            <a:ext cx="70228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4 Factor and Remainder Th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ynthetic substitu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 probl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5 Roots and Zer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und. thm. of algebr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lex conjuga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equation, given the roo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8920" y="250920"/>
            <a:ext cx="635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6 Rational Zero 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's and q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 roo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7 Operations on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- x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55520"/>
            <a:ext cx="576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8 Inverse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i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it is the i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 the i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9 Square Root Functions and 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 (table of valu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9080" y="460440"/>
            <a:ext cx="50799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40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-13, 16-2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4-7 use calc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16, 17 find all root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ketch the inverse of #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 y = (x+2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3 and its inver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0:30:59Z</dcterms:created>
  <dc:creator>udsd</dc:creator>
  <dc:description/>
  <dc:language>en-US</dc:language>
  <cp:lastModifiedBy>udsd</cp:lastModifiedBy>
  <dcterms:modified xsi:type="dcterms:W3CDTF">2009-02-26T20:30:59Z</dcterms:modified>
  <cp:revision>1</cp:revision>
  <dc:subject/>
  <dc:title>Slide 1</dc:title>
</cp:coreProperties>
</file>